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B0A8-2F0F-425D-8A4C-5429DD2A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C973-3269-4B0B-89E0-30CF7EE7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605-2844-4C80-B8F0-42393FDF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B2AF-C77F-4ECC-B095-6BFD9726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938-6F18-4E8B-A5BD-BF92B1A5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C99-6CE8-4A5C-9E48-8777F8C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03A2-D7D3-4FFC-8642-428D95E7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35E-BAB1-4BD5-BC2B-6A3E7939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532-177B-45A8-B734-A5AEDAB3E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28E-CEE1-45EE-8B92-AD73438D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1BF-E2E5-4BB4-9156-E76B2541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E46-74D8-481F-9EA3-42ABD85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EDB8-D42D-4610-BE37-D125C4C31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969840"/>
            <a:ext cx="6677280" cy="33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772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22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7180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370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6716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93960" y="211608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0228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8520" y="210996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1024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81600" y="210996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28720" y="4971960"/>
            <a:ext cx="649584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5040" y="5162400"/>
            <a:ext cx="6505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 DEFINITION - DNAPL flood, redistribution, and dis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 stress periods 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=0 to 100s - inject DNA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171360"/>
                <a:tab algn="l" pos="343080"/>
                <a:tab algn="l" pos="514440"/>
                <a:tab algn="l" pos="685800"/>
                <a:tab algn="l" pos="857160"/>
                <a:tab algn="l" pos="1028880"/>
                <a:tab algn="l" pos="1200240"/>
                <a:tab algn="l" pos="1371600"/>
                <a:tab algn="l" pos="1542960"/>
                <a:tab algn="l" pos="1714680"/>
                <a:tab algn="l" pos="1886040"/>
                <a:tab algn="l" pos="2057400"/>
                <a:tab algn="l" pos="2228760"/>
                <a:tab algn="l" pos="2400480"/>
                <a:tab algn="l" pos="2571840"/>
                <a:tab algn="l" pos="2743200"/>
                <a:tab algn="l" pos="2914560"/>
                <a:tab algn="l" pos="3086280"/>
                <a:tab algn="l" pos="3257640"/>
                <a:tab algn="l" pos="3429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&gt; 100s - remove source, allow DNAPL to redistribute/dissol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61920" y="6048360"/>
            <a:ext cx="352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figure is the DNAPL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57320" y="976320"/>
            <a:ext cx="6691320" cy="3352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670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323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152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4640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7688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03680" y="212580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824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19600" y="2119320"/>
            <a:ext cx="7452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890960" y="2119320"/>
            <a:ext cx="74880" cy="74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429080" y="685440"/>
            <a:ext cx="1085760" cy="143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38880" y="343080"/>
            <a:ext cx="238104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NAPL injection po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at rate = 0.02 cm^3/s for 1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38240" y="5572080"/>
            <a:ext cx="351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1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14840" y="380880"/>
            <a:ext cx="2266920" cy="5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225000" y="260604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05440" y="4443480"/>
            <a:ext cx="1000440" cy="2162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305840" y="4429080"/>
            <a:ext cx="5047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77480" y="527688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34440" y="4438800"/>
            <a:ext cx="475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57320" y="985680"/>
            <a:ext cx="6696000" cy="3356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76400" y="5591160"/>
            <a:ext cx="31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NAPL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226800" y="26074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 + 2.5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6953040" y="205668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head =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48440" y="3738600"/>
            <a:ext cx="962280" cy="2162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458200" y="3724200"/>
            <a:ext cx="4572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2000" y="990720"/>
            <a:ext cx="6676920" cy="3349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591000" y="462924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 cm 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57320" y="5619600"/>
            <a:ext cx="390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This is the Dissolved species solution @ 5000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432432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7600" y="4334040"/>
            <a:ext cx="6705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38240" y="971640"/>
            <a:ext cx="6715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00280" y="695160"/>
            <a:ext cx="12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38240" y="981000"/>
            <a:ext cx="0" cy="335304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53320" y="971640"/>
            <a:ext cx="9720" cy="334332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71440" y="3419640"/>
            <a:ext cx="16956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66840" y="316224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W flow dir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93600" y="2587680"/>
            <a:ext cx="13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0 cm de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805880" y="3824280"/>
            <a:ext cx="1000080" cy="2162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305920" y="3800520"/>
            <a:ext cx="4762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/cm</a:t>
            </a:r>
            <a:r>
              <a:rPr b="0" lang="en-US" sz="9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39680" y="5267160"/>
            <a:ext cx="11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85400" y="2490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ion =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943680" y="2247120"/>
            <a:ext cx="209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ve flux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1:40:30Z</dcterms:created>
  <dc:creator>guarnjo1</dc:creator>
  <dc:description/>
  <dc:language>en-US</dc:language>
  <cp:lastModifiedBy>guarnjo1</cp:lastModifiedBy>
  <dcterms:modified xsi:type="dcterms:W3CDTF">2010-07-23T12:56:07Z</dcterms:modified>
  <cp:revision>7</cp:revision>
  <dc:subject/>
  <dc:title>No Slide Title</dc:title>
</cp:coreProperties>
</file>