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E49-56C1-4931-AC56-B9D0D5AD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438-333E-4DAA-9D45-FA3CAF99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D61-25BD-48E1-8BE4-C2B4DF92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A81-3853-4BAC-8165-7385CCAA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D00-DB66-4927-9AD4-809AA909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667-E24E-4167-A8AB-BB0AF1D3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1AE-4B12-446C-9FEA-516949F3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489-9B48-41EA-9E08-740E7AF4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26B-2F81-4A40-9BD9-8EE8CA27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1B7-8DCD-4675-9A08-7761236B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33E-8B9C-40F1-90B9-EBF3D29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437-85A3-4995-A14C-0A30931F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E2E3-BDCB-4713-A5AA-C1E6562A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5904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ntration = 1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71680"/>
            <a:ext cx="296244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– Transport of a dense miscible liquid [density = 2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1920" y="5972040"/>
            <a:ext cx="51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Initial Condition for miscible compound (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24680" y="3276720"/>
            <a:ext cx="648000" cy="2162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6629400" cy="334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4314960" y="856800"/>
            <a:ext cx="64764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4360" y="3200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– density-driven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ncentration distribution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3328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924680" y="3276720"/>
            <a:ext cx="648000" cy="216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514360" y="3200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3:38:36Z</dcterms:created>
  <dc:creator>guarnjo1</dc:creator>
  <dc:description/>
  <dc:language>en-US</dc:language>
  <cp:lastModifiedBy>guarnjo1</cp:lastModifiedBy>
  <dcterms:modified xsi:type="dcterms:W3CDTF">2010-07-23T13:03:22Z</dcterms:modified>
  <cp:revision>4</cp:revision>
  <dc:subject/>
  <dc:title>No Slide Title</dc:title>
</cp:coreProperties>
</file>