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7C5-300F-4942-80DA-6964C538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442-E03E-4BF5-AA09-7740B817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482-D498-46CC-9764-01CB9E25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CB2-9234-45FC-A889-48B0773D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6D1-459B-4655-B67B-B5E327C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39C-0FFC-4A9A-8861-43EAE6B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B13-4877-42D6-A7BF-8145719B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6CC-6F1D-46B5-99FE-A0071E3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E16-0BCA-4C72-8605-B4A1AEE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535-7319-49BE-8140-2254937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61C-0B16-4112-AA7F-B876709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DD3-F91B-4ED1-9BD9-B1BFE1B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101-188A-45ED-97FB-1A9BA121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86280" cy="335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DNAPL emplaced @ Sn =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520" y="561960"/>
            <a:ext cx="2962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5972040"/>
            <a:ext cx="43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DNAPL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NAPL distribution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2000" y="957240"/>
            <a:ext cx="6676920" cy="336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6160" y="3790800"/>
            <a:ext cx="1133640" cy="21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05920" y="3800520"/>
            <a:ext cx="61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204480" y="2795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7212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00-08-02T13:40:00Z</dcterms:modified>
  <cp:revision>2</cp:revision>
  <dc:subject/>
  <dc:title>No Slide Title</dc:title>
</cp:coreProperties>
</file>