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5C2-AA43-4B5A-89F8-F2D0D64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D77-4CB8-4044-B4ED-350380B4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FBC-D4E2-40BA-85C3-7200AAA5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71F-0BB3-49E1-BBD9-805AA2A9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AC25-641C-4096-99C4-44BA3409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CE1-D77D-459B-955C-4F793C4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2715-D84B-4377-855C-2C22663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75F8-91E5-4E94-A7B3-5EEBF351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877-B59A-4BE8-BB0A-F15EF65A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9604-0241-429B-A0F3-87C1AE1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311-BCCA-4EE4-83F4-4918592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E78-90F4-4345-9BFA-F4C8BEB5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C138-6130-493D-8DD9-6B98052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E23-9023-4294-993A-5D37D06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FB68-1D87-42CC-9A5C-1709C89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BF21-4744-4A8D-A89E-261054E5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7A75-2C73-4D1F-ACC0-D4A141E2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C4A-DCE2-47E0-A6E2-E78EB330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634-0165-4DCF-86B7-F611129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F04-80EE-4C06-B763-E7F2E6CE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253-847F-4985-819F-2C562AC6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5CD-3E00-437A-8A21-E15BA618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1D7-2E0B-454D-8B98-F7FA413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2E8-BD4C-476D-A914-F2733B4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2186-C400-4466-B26B-199E4AF4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MT Extra Bold"/>
              </a:rPr>
              <a:t>Watershed &amp; Water Quality Modeling Technical Support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EBCB-34EA-4907-AC6C-04FA0B50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04512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>
                  <a:alpha val="81176"/>
                </a:srgbClr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and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960" y="1371600"/>
            <a:ext cx="67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Later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20040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Depth (hydraulic radius),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u*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Shear Velocity, [m/se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23 (long, wide lab flume)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Elder, 19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17 (straight lab flu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Sayre (1973), Sayre and Chang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0.22 – 0.65, most 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Yotsukura and Cobb(1972), Yotsukura and Sayre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41200" y="23144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lder, 195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2096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du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6520" y="1447920"/>
            <a:ext cx="68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ertic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von Karman coefficient, ~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Depth (hydraulic radius),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</a:rPr>
              <a:t>u*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Shear Velocity, [m/se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5960" y="251460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Jobson and Sayre, 197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28800" y="2243160"/>
                <a:ext cx="335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Lak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6520" y="2286000"/>
            <a:ext cx="7660080" cy="2212200"/>
            <a:chOff x="686520" y="2286000"/>
            <a:chExt cx="7660080" cy="2212200"/>
          </a:xfrm>
        </p:grpSpPr>
        <p:sp>
          <p:nvSpPr>
            <p:cNvPr id="190" name=""/>
            <p:cNvSpPr/>
            <p:nvPr/>
          </p:nvSpPr>
          <p:spPr>
            <a:xfrm>
              <a:off x="686520" y="2286000"/>
              <a:ext cx="668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</a:rPr>
                <a:t>Vertical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Dispersion Coefficient in Lakes, </a:t>
              </a: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bbe0e3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[m</a:t>
              </a:r>
              <a:r>
                <a:rPr b="0" lang="en-US" sz="2400" spc="-1" strike="noStrike" baseline="30000">
                  <a:solidFill>
                    <a:srgbClr val="bbe0e3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8280" y="4038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bbe0e3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 =  Depth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5960" y="329076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Jobson and Sayre, 1970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392200" y="3186000"/>
                  <a:ext cx="26067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4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Measure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33520" y="1219320"/>
          <a:ext cx="8229600" cy="4746600"/>
        </p:xfrm>
        <a:graphic>
          <a:graphicData uri="http://schemas.openxmlformats.org/drawingml/2006/table">
            <a:tbl>
              <a:tblPr/>
              <a:tblGrid>
                <a:gridCol w="3276360"/>
                <a:gridCol w="49532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ttahoochee River, 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32.5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quehanna River, 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2.9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ouri River, NB-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465 – 1487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etam Creek, 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.3 - 25.6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ll River, T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9.5 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ondaga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05 – 0.09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Zurich, 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2 – 0.7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2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0.063 – 0.0125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cross thermoc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5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Hu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1.16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yug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2.31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i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3.47 c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hole lak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mplementing Dispersion in WASP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chang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495680" y="3962160"/>
            <a:ext cx="1676160" cy="2133720"/>
          </a:xfrm>
          <a:prstGeom prst="cube">
            <a:avLst>
              <a:gd name="adj" fmla="val 2529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2838600" y="4019400"/>
            <a:ext cx="1676160" cy="2019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5257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60920" y="5257800"/>
            <a:ext cx="47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Dispersion in WAS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981080"/>
            <a:ext cx="121896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1981080"/>
            <a:ext cx="1219320" cy="1143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5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6668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6668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666880"/>
            <a:ext cx="6094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9760" y="3429000"/>
            <a:ext cx="89935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x identical segments. Each 10m x 10m x 10m in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urely Dispers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eed to set up exchange between each seg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5880" y="1422360"/>
            <a:ext cx="172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0.6 m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17520" y="1401840"/>
            <a:ext cx="430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0.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gment Structure Set U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ple Toxicant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1/2000 00:00 to 7/1/2000 00: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Step of 0.1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 Interval of 1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segments of 10m x 10m x 1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Conservative Tox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pass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Concentration of 0.6 mg/L in Segme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gment Tab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8400" cy="4133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048120" y="17524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895480"/>
            <a:ext cx="83808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2971800"/>
            <a:ext cx="6858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2895480"/>
            <a:ext cx="6858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4343400"/>
            <a:ext cx="304920" cy="1905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419720"/>
            <a:ext cx="685800" cy="1676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4343400"/>
            <a:ext cx="685800" cy="1676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4280" y="624852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et up 6 Wat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6240" y="6095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1000 m</a:t>
            </a:r>
            <a:r>
              <a:rPr b="0" lang="en-US" sz="1800" spc="-1" strike="noStrike" baseline="30000">
                <a:solidFill>
                  <a:srgbClr val="bbe0e3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3840" y="6019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10 m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609480" cy="590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113600" cy="4724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257800" y="17524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6831000" cy="5114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82760" y="22860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286000"/>
            <a:ext cx="12952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657600"/>
            <a:ext cx="175284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962520"/>
            <a:ext cx="2590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914400"/>
            <a:ext cx="222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urn on “Surface Wa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“Exchange Function” as “Lateral Disper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Exchanges from Segment one to Segment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efine value as 0.0001 m</a:t>
            </a:r>
            <a:r>
              <a:rPr b="0" lang="en-US" sz="1800" spc="-1" strike="noStrike" baseline="30000">
                <a:solidFill>
                  <a:srgbClr val="bbe0e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752480" y="1143000"/>
            <a:ext cx="518184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800240" y="1981080"/>
            <a:ext cx="21337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76160" y="3581280"/>
            <a:ext cx="5257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943240" y="4343040"/>
            <a:ext cx="106668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6960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6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57400" y="1523880"/>
                <a:ext cx="4419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chang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856440" y="2438280"/>
            <a:ext cx="79056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P Structure of Exchanges requ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Dispersion Exchange Coefficient [m2/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oss-section Dispersion Area [m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haracteristic Dispersion Length 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fined as 0.5*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+ 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length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s 1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Area = 100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Distance = 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019160"/>
            <a:ext cx="6799320" cy="51530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 Up Ex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733920"/>
            <a:ext cx="76176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733920"/>
            <a:ext cx="76212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781680" cy="5351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79440" y="613260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631800"/>
                <a:tab algn="ctr" pos="2003400"/>
                <a:tab algn="ctr" pos="3375000"/>
                <a:tab algn="ctr" pos="4746600"/>
                <a:tab algn="ctr" pos="6060960"/>
                <a:tab algn="ctr" pos="6683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4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4640" y="2362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4640" y="3352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464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464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180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464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364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-628200" y="33746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ntration [ug/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: process where a constituent moves from a higher concentration to a lower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: mixing caused by physical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3276720"/>
            <a:ext cx="6172200" cy="1066680"/>
            <a:chOff x="1676520" y="3276720"/>
            <a:chExt cx="6172200" cy="1066680"/>
          </a:xfrm>
        </p:grpSpPr>
        <p:sp>
          <p:nvSpPr>
            <p:cNvPr id="90" name=""/>
            <p:cNvSpPr/>
            <p:nvPr/>
          </p:nvSpPr>
          <p:spPr>
            <a:xfrm>
              <a:off x="1676520" y="3276720"/>
              <a:ext cx="8380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830240" y="3429000"/>
              <a:ext cx="7488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444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134440" y="37335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830240" y="4114800"/>
              <a:ext cx="7488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828080" y="3732120"/>
              <a:ext cx="7452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134440" y="41148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276720"/>
              <a:ext cx="16002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19184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799880" y="34290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647600" y="3886200"/>
              <a:ext cx="74520" cy="75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267080" y="3962160"/>
              <a:ext cx="748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572000" y="3657600"/>
              <a:ext cx="7776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10480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3276720"/>
              <a:ext cx="8380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3276720"/>
              <a:ext cx="16002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77840" y="35049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543080" y="350496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010280" y="4038480"/>
              <a:ext cx="748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47640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010280" y="3504960"/>
              <a:ext cx="77760" cy="7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543080" y="4038480"/>
              <a:ext cx="745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2480" y="45720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8880" y="4572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Diffusion: Random motion of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dy Diffusion: Turbulent mixing of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Dispersion: mixing caused by variations in velo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2632" t="6701" r="48843" b="67848"/>
          <a:stretch/>
        </p:blipFill>
        <p:spPr>
          <a:xfrm>
            <a:off x="6705720" y="1752480"/>
            <a:ext cx="1898640" cy="126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0948" t="37692" r="45474" b="33504"/>
          <a:stretch/>
        </p:blipFill>
        <p:spPr>
          <a:xfrm>
            <a:off x="6629400" y="3200400"/>
            <a:ext cx="21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74549" r="37895" b="0"/>
          <a:stretch/>
        </p:blipFill>
        <p:spPr>
          <a:xfrm>
            <a:off x="6083280" y="4987800"/>
            <a:ext cx="30607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6200000">
            <a:off x="4190760" y="1142640"/>
            <a:ext cx="1676520" cy="2133360"/>
          </a:xfrm>
          <a:prstGeom prst="cube">
            <a:avLst>
              <a:gd name="adj" fmla="val 2529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thematical Represen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ck’s First Law of Diff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ous to Fick’s First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533680" y="1199880"/>
            <a:ext cx="1676520" cy="2019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362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4960" y="2362320"/>
            <a:ext cx="4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0"/>
                <a:ext cx="942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4125960"/>
                <a:ext cx="20574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81280" y="5649840"/>
                <a:ext cx="2743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02360" y="5867280"/>
            <a:ext cx="19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ange of Values for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ffusion and Disper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0" y="762120"/>
            <a:ext cx="4106880" cy="51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380880" y="1523880"/>
          <a:ext cx="8550360" cy="4797720"/>
        </p:xfrm>
        <a:graphic>
          <a:graphicData uri="http://schemas.openxmlformats.org/drawingml/2006/table">
            <a:tbl>
              <a:tblPr/>
              <a:tblGrid>
                <a:gridCol w="2779920"/>
                <a:gridCol w="2779560"/>
                <a:gridCol w="299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ical Range [m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ular Dif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bulent Dif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er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itud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10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ffusion Coeffici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295280"/>
          <a:ext cx="7696080" cy="4991400"/>
        </p:xfrm>
        <a:graphic>
          <a:graphicData uri="http://schemas.openxmlformats.org/drawingml/2006/table">
            <a:tbl>
              <a:tblPr/>
              <a:tblGrid>
                <a:gridCol w="4524120"/>
                <a:gridCol w="31719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er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efficient [m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ular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cted Sed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1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turbated Sed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9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s – Vertic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6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Rivers – Lat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Rivers – Longitud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uaries – Longitud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960840" y="6477120"/>
            <a:ext cx="83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From Schnoor, Environmental Modeling: Fate and Transport of Pollutants in Water, Air, and Soil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termining Disper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ms &amp; 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Neglect Disp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by Calibration or Dy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Salinity data using observed downstream boundary concentration as the forcing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Temperatur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bration to Chlorid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persion in Ri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040" y="1486080"/>
            <a:ext cx="74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Longitudinal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Dispersion Coefficient in Rivers, </a:t>
            </a:r>
            <a:r>
              <a:rPr b="0" i="1" lang="en-US" sz="2400" spc="-1" strike="noStrike">
                <a:solidFill>
                  <a:srgbClr val="bbe0e3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bbe0e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 [m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/s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2209680"/>
                <a:ext cx="3581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t xml:space="preserve">⋅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∗</m:t>
                        </m:r>
                      </m:den>
                    </m:f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0"/>
                <a:ext cx="609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77120" y="3581280"/>
            <a:ext cx="4940280" cy="2654280"/>
            <a:chOff x="1977120" y="3581280"/>
            <a:chExt cx="4940280" cy="265428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981080" y="3584520"/>
                  <a:ext cx="403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u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1977120" y="3581280"/>
              <a:ext cx="4940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Mean Velocity [m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Width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d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Depth (hydraulic radius), [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u* 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Shear Velocity, [m/sec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= Channel Slope [m/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be0e3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3200040" y="5032440"/>
                  <a:ext cx="11430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g</m:t>
                          </m:r>
                          <m:r>
                            <m:t xml:space="preserve">⋅</m:t>
                          </m:r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7" name=""/>
          <p:cNvSpPr/>
          <p:nvPr/>
        </p:nvSpPr>
        <p:spPr>
          <a:xfrm>
            <a:off x="5640480" y="25146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Fischer, et al., 197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5:41:10Z</dcterms:created>
  <dc:creator>CKNIGHTES</dc:creator>
  <dc:description/>
  <dc:language>en-US</dc:language>
  <cp:lastModifiedBy>RAMBROSE</cp:lastModifiedBy>
  <dcterms:modified xsi:type="dcterms:W3CDTF">2005-11-15T18:07:17Z</dcterms:modified>
  <cp:revision>17</cp:revision>
  <dc:subject/>
  <dc:title>Dispersion</dc:title>
</cp:coreProperties>
</file>